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98E51-3A9A-4543-B3C1-1C540EC22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169B-A94F-4DFA-99FD-22EEBB1F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CFFC5-B47B-48D8-81CD-53A0F1795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7A763-1615-4B6D-896A-006B8E8E6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23BC-0100-4C4E-B7C9-FB673889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7BC1-24F0-4E36-9F46-BB3583DD1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20623-7A4C-4880-ADAC-4506DE0B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8912A-09D5-4A84-BE4D-F29C61E43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969C-174D-4E63-B6D4-B0BEFABE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E714-F69B-465D-94A7-BDC6E8F5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41F1-1726-4461-BE6B-CF568B1F9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2FA6-ABD4-4816-99BF-4E6E0D25D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AD88-CBF5-4534-89D0-B4AD1ACF4FA8}" type="slidenum">
              <a:rPr b="0" lang="es-E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bird@probonopr.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052280"/>
            <a:ext cx="6553080" cy="1143000"/>
          </a:xfrm>
          <a:prstGeom prst="rect">
            <a:avLst/>
          </a:prstGeom>
          <a:noFill/>
          <a:ln w="9360">
            <a:solidFill>
              <a:srgbClr val="f2f2f2"/>
            </a:solidFill>
            <a:miter/>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900"/>
            </a:br>
            <a:br>
              <a:rPr sz="2900"/>
            </a:br>
            <a:br>
              <a:rPr sz="2900"/>
            </a:br>
            <a:br>
              <a:rPr sz="2900"/>
            </a:br>
            <a:br>
              <a:rPr sz="2900"/>
            </a:br>
            <a:br>
              <a:rPr sz="2900"/>
            </a:br>
            <a:br>
              <a:rPr sz="2900"/>
            </a:br>
            <a:br>
              <a:rPr sz="2900"/>
            </a:br>
            <a:br>
              <a:rPr sz="2900"/>
            </a:br>
            <a:r>
              <a:rPr b="0" lang="en-US" sz="2900" spc="-1" strike="noStrike">
                <a:solidFill>
                  <a:srgbClr val="000000"/>
                </a:solidFill>
                <a:latin typeface="Albertus Extra Bold"/>
              </a:rPr>
              <a:t>Las Defensas de los Deudores en los Procedimientos de Ejecución de Hipoteca </a:t>
            </a:r>
            <a:br>
              <a:rPr sz="2900"/>
            </a:br>
            <a:br>
              <a:rPr sz="2900"/>
            </a:br>
            <a:br>
              <a:rPr sz="2900"/>
            </a:br>
            <a:br>
              <a:rPr sz="2900"/>
            </a:br>
            <a:br>
              <a:rPr sz="2900"/>
            </a:br>
            <a:br>
              <a:rPr sz="2900"/>
            </a:br>
            <a:r>
              <a:rPr b="1" lang="en-US" sz="1800" spc="-1" strike="noStrike">
                <a:solidFill>
                  <a:srgbClr val="000000"/>
                </a:solidFill>
                <a:latin typeface="Albertus Extra Bold"/>
              </a:rPr>
              <a:t>Lcdo. Jorge Bird Serrano</a:t>
            </a:r>
            <a:br>
              <a:rPr sz="1800"/>
            </a:br>
            <a:r>
              <a:rPr b="0" lang="en-US" sz="1800" spc="-1" strike="noStrike" u="sng">
                <a:solidFill>
                  <a:srgbClr val="0563c1"/>
                </a:solidFill>
                <a:uFillTx/>
                <a:latin typeface="Albertus Extra Bold"/>
                <a:hlinkClick r:id="rId1"/>
              </a:rPr>
              <a:t>jbird@probonopr.org</a:t>
            </a:r>
            <a:r>
              <a:rPr b="1" lang="en-US" sz="1800" spc="-1" strike="noStrike">
                <a:solidFill>
                  <a:srgbClr val="000000"/>
                </a:solidFill>
                <a:latin typeface="Albertus Extra Bold"/>
              </a:rPr>
              <a:t> </a:t>
            </a:r>
            <a:br>
              <a:rPr sz="1800"/>
            </a:br>
            <a:r>
              <a:rPr b="1" lang="en-US" sz="1800" spc="-1" strike="noStrike">
                <a:solidFill>
                  <a:srgbClr val="000000"/>
                </a:solidFill>
                <a:latin typeface="Albertus Extra Bold"/>
              </a:rPr>
              <a:t>Programa  Probono para la Prevención de Ejecuciones de Hipoteca </a:t>
            </a:r>
            <a:br>
              <a:rPr sz="1800"/>
            </a:br>
            <a:r>
              <a:rPr b="1" lang="en-US" sz="1800" spc="-1" strike="noStrike">
                <a:solidFill>
                  <a:srgbClr val="000000"/>
                </a:solidFill>
                <a:latin typeface="Albertus Extra Bold"/>
              </a:rPr>
              <a:t>9 de diciembre de 2021</a:t>
            </a:r>
            <a:br>
              <a:rPr sz="2900"/>
            </a:br>
            <a:endParaRPr b="0" lang="en-US" sz="1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odd Frank Act</a:t>
            </a:r>
            <a:endParaRPr b="0" lang="en-US" sz="3300" spc="-1" strike="noStrike">
              <a:solidFill>
                <a:srgbClr val="000000"/>
              </a:solidFill>
              <a:latin typeface="Calibri Light"/>
            </a:endParaRPr>
          </a:p>
        </p:txBody>
      </p:sp>
      <p:sp>
        <p:nvSpPr>
          <p:cNvPr id="5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 Dodd Frank Act creó Consumer Financial Protection Bureau el cual establece el Reglamento X y la obligación de los acreedores de auscultar alternativas a la ejecución de hipotecas (foreclosures) sobre la vivienda principal.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Obligaciones Previo a la Demanda</a:t>
            </a: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Delinquency begins on the day a payment sufficient to cover principal, interest, and, if applicable, escrow for a given billing cycle is due and unpaid. 12 CFR 1024.39(a)</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Servicers must send a borrower a written notice within 45 days after the borrower becomes delinquent. The written notice must encourage the borrower to contact the servicer, provide the servicer’s telephone number and address to access assigned loss mitigation personnel, describe examples of loss mitigation options that may be available (if applicable), provide loss mitigation application instructions… 12 CFR 1024.39 (b)</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A servicer cannot make the first foreclosure notice or filing for any judicial or non-judicial process until (i) the borrower is more than 120 days delinquent, (ii) the foreclosure is based on a borrower’s violation of a due-on-sale clause, or (iii) the servicer is joining a subordinate lienholder’s foreclosure action. 12 CFR 1024.41 (f)</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f a borrower submits a complete loss mitigation application before the 120th day of delinquency </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or before the servicer makes the first foreclosure notice or filing, then the servicer cannot make </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the first foreclosure notice or filing unless one of the following occurs: “(i) the servicer sends a notice to the borrower stating that the borrower is ineligible for any loss mitigation option and if an appeal is available, either the borrower did not timely appeal, or the appeal has been denied; (ii) the borrower rejects all the offered loss mitigation options; or (iii) the borrower fails to perform under a loss mitigation agreement.” </a:t>
            </a:r>
            <a:r>
              <a:rPr b="0" i="1" lang="en-US" sz="1400" spc="-1" strike="noStrike">
                <a:solidFill>
                  <a:srgbClr val="000000"/>
                </a:solidFill>
                <a:latin typeface="Calibri"/>
              </a:rPr>
              <a:t>Id</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3300" spc="-1" strike="noStrike">
                <a:solidFill>
                  <a:srgbClr val="000000"/>
                </a:solidFill>
                <a:latin typeface="Calibri Light"/>
              </a:rPr>
              <a:t>Obligaciones del acreedor luego de presentada la demanda pero previo a la venta en pública subasta</a:t>
            </a:r>
            <a:endParaRPr b="0" lang="en-US" sz="3300" spc="-1" strike="noStrike">
              <a:solidFill>
                <a:srgbClr val="000000"/>
              </a:solidFill>
              <a:latin typeface="Calibri Light"/>
            </a:endParaRPr>
          </a:p>
        </p:txBody>
      </p:sp>
      <p:sp>
        <p:nvSpPr>
          <p:cNvPr id="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g) Prohibition on foreclosure sale.</a:t>
            </a:r>
            <a:r>
              <a:rPr b="0" lang="es-ES" sz="1400" spc="-1" strike="noStrike">
                <a:solidFill>
                  <a:srgbClr val="000000"/>
                </a:solidFill>
                <a:latin typeface="Calibri"/>
              </a:rPr>
              <a:t> If a borrower submits a complete loss mitigation application after a servicer has made the first notice or filing required by applicable law for any judicial or non-judicial foreclosure process but more than 37 days before a foreclosure sale, a servicer shall not move for foreclosure judgment or order of sale, or conduct a foreclosure sale, unless:</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1)</a:t>
            </a:r>
            <a:r>
              <a:rPr b="0" lang="es-ES" sz="1400" spc="-1" strike="noStrike">
                <a:solidFill>
                  <a:srgbClr val="000000"/>
                </a:solidFill>
                <a:latin typeface="Calibri"/>
              </a:rPr>
              <a:t> The servicer has sent the borrower a notice pursuant to paragraph (c)(1)(ii) of this section that the borrower is not eligible for any loss mitigation option and the appeal process in paragraph (h) of this section is not applicable, the borrower has not requested an appeal within the applicable time period for requesting an appeal, or the borrower's appeal has been denied;</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2)</a:t>
            </a:r>
            <a:r>
              <a:rPr b="0" lang="es-ES" sz="1400" spc="-1" strike="noStrike">
                <a:solidFill>
                  <a:srgbClr val="000000"/>
                </a:solidFill>
                <a:latin typeface="Calibri"/>
              </a:rPr>
              <a:t> The borrower rejects all loss mitigation options offered by the servicer; or</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400" spc="-1" strike="noStrike">
                <a:solidFill>
                  <a:srgbClr val="000000"/>
                </a:solidFill>
                <a:latin typeface="Calibri"/>
              </a:rPr>
              <a:t>	</a:t>
            </a:r>
            <a:r>
              <a:rPr b="1" lang="es-ES" sz="1400" spc="-1" strike="noStrike">
                <a:solidFill>
                  <a:srgbClr val="000000"/>
                </a:solidFill>
                <a:latin typeface="Calibri"/>
              </a:rPr>
              <a:t>(3)</a:t>
            </a:r>
            <a:r>
              <a:rPr b="0" lang="es-ES" sz="1400" spc="-1" strike="noStrike">
                <a:solidFill>
                  <a:srgbClr val="000000"/>
                </a:solidFill>
                <a:latin typeface="Calibri"/>
              </a:rPr>
              <a:t> The borrower fails to perform under an agreement on a loss mitigation option. </a:t>
            </a:r>
            <a:r>
              <a:rPr b="0" lang="en-US" sz="1400" spc="-1" strike="noStrike">
                <a:solidFill>
                  <a:srgbClr val="000000"/>
                </a:solidFill>
                <a:latin typeface="Calibri"/>
              </a:rPr>
              <a:t>12 CFR 1024.41 (f)</a:t>
            </a:r>
            <a:endParaRPr b="0" lang="en-US" sz="1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3300" spc="-1" strike="noStrike">
                <a:solidFill>
                  <a:srgbClr val="000000"/>
                </a:solidFill>
                <a:latin typeface="Calibri Light"/>
              </a:rPr>
              <a:t>Proceso de Apelación en Loss Mitigation</a:t>
            </a:r>
            <a:endParaRPr b="0" lang="en-US" sz="3300" spc="-1" strike="noStrike">
              <a:solidFill>
                <a:srgbClr val="000000"/>
              </a:solidFill>
              <a:latin typeface="Calibri Light"/>
            </a:endParaRPr>
          </a:p>
        </p:txBody>
      </p:sp>
      <p:sp>
        <p:nvSpPr>
          <p:cNvPr id="65"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h) Appeal process</a:t>
            </a:r>
            <a:r>
              <a:rPr b="0" lang="es-ES" sz="1600" spc="-1" strike="noStrike">
                <a:solidFill>
                  <a:srgbClr val="000000"/>
                </a:solidFill>
                <a:latin typeface="Calibri"/>
              </a:rPr>
              <a:t> —</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1) Appeal process required for loan modification denials.</a:t>
            </a:r>
            <a:r>
              <a:rPr b="0" lang="es-ES" sz="1600" spc="-1" strike="noStrike">
                <a:solidFill>
                  <a:srgbClr val="000000"/>
                </a:solidFill>
                <a:latin typeface="Calibri"/>
              </a:rPr>
              <a:t> If a servicer receives a complete loss mitigation application 90 days or more before a foreclosure sale or during the period set forth in paragraph (f) of this section, a servicer shall permit a borrower to appeal the servicer's determination to deny a borrower's loss mitigation application for any trial or permanent loan modification program available to the borrower.</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2) Deadlines.</a:t>
            </a:r>
            <a:r>
              <a:rPr b="0" lang="es-ES" sz="1600" spc="-1" strike="noStrike">
                <a:solidFill>
                  <a:srgbClr val="000000"/>
                </a:solidFill>
                <a:latin typeface="Calibri"/>
              </a:rPr>
              <a:t> A servicer shall permit a borrower to make an appeal within 14 days after the servicer provides the offer of a loss mitigation option to the borrower pursuant to paragraph (c)(1)(ii) of this section.</a:t>
            </a:r>
            <a:endParaRPr b="0" lang="en-US" sz="1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600" spc="-1" strike="noStrike">
                <a:solidFill>
                  <a:srgbClr val="000000"/>
                </a:solidFill>
                <a:latin typeface="Calibri"/>
              </a:rPr>
              <a:t>	</a:t>
            </a:r>
            <a:r>
              <a:rPr b="1" lang="es-ES" sz="1600" spc="-1" strike="noStrike">
                <a:solidFill>
                  <a:srgbClr val="000000"/>
                </a:solidFill>
                <a:latin typeface="Calibri"/>
              </a:rPr>
              <a:t>(3) Independent evaluation.</a:t>
            </a:r>
            <a:r>
              <a:rPr b="0" lang="es-ES" sz="1600" spc="-1" strike="noStrike">
                <a:solidFill>
                  <a:srgbClr val="000000"/>
                </a:solidFill>
                <a:latin typeface="Calibri"/>
              </a:rPr>
              <a:t> An appeal shall be reviewed by different personnel than those responsible for evaluating the borrower's complete loss mitigation application. </a:t>
            </a:r>
            <a:r>
              <a:rPr b="0" lang="en-US" sz="1600" spc="-1" strike="noStrike">
                <a:solidFill>
                  <a:srgbClr val="000000"/>
                </a:solidFill>
                <a:latin typeface="Calibri"/>
              </a:rPr>
              <a:t>12 CFR </a:t>
            </a:r>
            <a:r>
              <a:rPr b="0" lang="es-ES" sz="1600" spc="-1" strike="noStrike">
                <a:solidFill>
                  <a:srgbClr val="000000"/>
                </a:solidFill>
                <a:latin typeface="Calibri"/>
              </a:rPr>
              <a:t>1024.41 (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y de Mediación Compulsoria</a:t>
            </a:r>
            <a:endParaRPr b="0" lang="en-US" sz="3300" spc="-1" strike="noStrike">
              <a:solidFill>
                <a:srgbClr val="000000"/>
              </a:solidFill>
              <a:latin typeface="Calibri Light"/>
            </a:endParaRPr>
          </a:p>
        </p:txBody>
      </p:sp>
      <p:sp>
        <p:nvSpPr>
          <p:cNvPr id="6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404040"/>
                </a:solidFill>
                <a:latin typeface="open_sansregular"/>
              </a:rPr>
              <a:t> </a:t>
            </a:r>
            <a:r>
              <a:rPr b="0" lang="es-ES" sz="1800" spc="-1" strike="noStrike">
                <a:solidFill>
                  <a:srgbClr val="404040"/>
                </a:solidFill>
                <a:latin typeface="open_sansregular"/>
              </a:rPr>
              <a:t> </a:t>
            </a:r>
            <a:r>
              <a:rPr b="0" lang="es-ES" sz="1800" spc="-1" strike="noStrike">
                <a:solidFill>
                  <a:srgbClr val="404040"/>
                </a:solidFill>
                <a:latin typeface="open_sansregular"/>
              </a:rPr>
              <a:t>(b) Mediación compulsoria.— En los casos en que un acreedor hipotecario pueda iniciar un proceso de ejecución de hipoteca, o el cual pueda culminar en la venta judicial, de una </a:t>
            </a:r>
            <a:r>
              <a:rPr b="1" lang="es-ES" sz="1800" spc="-1" strike="noStrike">
                <a:solidFill>
                  <a:srgbClr val="404040"/>
                </a:solidFill>
                <a:latin typeface="open_sansregular"/>
              </a:rPr>
              <a:t>propiedad residencial que constituya una vivienda principal</a:t>
            </a:r>
            <a:r>
              <a:rPr b="0" lang="es-ES" sz="1800" spc="-1" strike="noStrike">
                <a:solidFill>
                  <a:srgbClr val="404040"/>
                </a:solidFill>
                <a:latin typeface="open_sansregular"/>
              </a:rPr>
              <a:t>, se celebrará una reunión compulsoria de mediación conducida en una sala o salón del tribunal o en aquel lugar que las partes en acuerdo con el mediador seleccionen, pero que no podrá ser en las oficinas del acreedor hipotecario o de sus abogados o representantes legales o asesores, y presidida por un mediador seleccionado por las partes, en el curso de un procedimiento de ejecución de hipoteca sumario y/o ordinario. En dicha reunión el acreedor hipotecario notificará al deudor hipotecario todas las alternativas disponibles en el mercado para poder evitar la ejecución de la hipoteca o la venta judicial de una propiedad residencial que constituya una vivienda principal. El propósito u objetivo será poder llegar a un acuerdo o modificación que permita al deudor hipotecario establecer un acuerdo de pago u otra alternativa satisfactoria a las partes y no perder su vivienda princip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Ley de Mediación Compulsoria</a:t>
            </a:r>
            <a:endParaRPr b="0" lang="en-US" sz="3300" spc="-1" strike="noStrike">
              <a:solidFill>
                <a:srgbClr val="000000"/>
              </a:solidFill>
              <a:latin typeface="Calibri Light"/>
            </a:endParaRPr>
          </a:p>
        </p:txBody>
      </p:sp>
      <p:sp>
        <p:nvSpPr>
          <p:cNvPr id="69" name=""/>
          <p:cNvSpPr txBox="1"/>
          <p:nvPr/>
        </p:nvSpPr>
        <p:spPr>
          <a:xfrm>
            <a:off x="628560" y="1825200"/>
            <a:ext cx="7886880" cy="4667400"/>
          </a:xfrm>
          <a:prstGeom prst="rect">
            <a:avLst/>
          </a:prstGeom>
          <a:noFill/>
          <a:ln w="0">
            <a:noFill/>
          </a:ln>
        </p:spPr>
        <p:txBody>
          <a:bodyPr anchor="t">
            <a:normAutofit fontScale="97000"/>
          </a:bodyPr>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400" spc="-1" strike="noStrike">
                <a:solidFill>
                  <a:srgbClr val="000000"/>
                </a:solidFill>
                <a:latin typeface="Calibri"/>
              </a:rPr>
              <a:t>	</a:t>
            </a:r>
            <a:r>
              <a:rPr b="0" lang="es-ES" sz="1400" spc="-1" strike="noStrike">
                <a:solidFill>
                  <a:srgbClr val="000000"/>
                </a:solidFill>
                <a:latin typeface="Calibri"/>
              </a:rPr>
              <a:t>“</a:t>
            </a:r>
            <a:r>
              <a:rPr b="0" lang="es-ES" sz="1400" spc="-1" strike="noStrike">
                <a:solidFill>
                  <a:srgbClr val="000000"/>
                </a:solidFill>
                <a:latin typeface="Calibri"/>
              </a:rPr>
              <a:t>Artículo 3.- Será deber del Tribunal, </a:t>
            </a:r>
            <a:r>
              <a:rPr b="1" lang="es-ES" sz="1400" spc="-1" strike="noStrike">
                <a:solidFill>
                  <a:srgbClr val="000000"/>
                </a:solidFill>
                <a:latin typeface="Calibri"/>
              </a:rPr>
              <a:t>al presentarse la demanda y diligenciarse el emplazamiento</a:t>
            </a:r>
            <a:r>
              <a:rPr b="0" lang="es-ES" sz="1400" spc="-1" strike="noStrike">
                <a:solidFill>
                  <a:srgbClr val="000000"/>
                </a:solidFill>
                <a:latin typeface="Calibri"/>
              </a:rPr>
              <a:t>, citar a las partes a una vista o acto de mediación compulsoria que presidirá un mediador seleccionado por las partes y que tendrá lugar en cualquier salón o sala del tribunal o en aquel lugar que las partes en acuerdo con el mediador seleccionen, en la cual se le informará al deudor hipotecario todas las alternativas disponibles en el mercado para poder evitar la privación del inmueble al deudor, ejecución de la hipoteca o la venta judicial de una propiedad residencial que constituya una vivienda principal, incluyendo aquellas alternativas que no dependen de la capacidad económica del deudor, como lo son la venta corta (“short sale”), la dación en pago, entrega voluntaria de título, y otros remedios que eviten que el deudor pierda su hogar o que, de perderlo, se minimicen las consecuencias   negativas   sobre   el   deudor.</a:t>
            </a:r>
            <a:endParaRPr b="0" lang="en-US" sz="1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400" spc="-1" strike="noStrike">
                <a:solidFill>
                  <a:srgbClr val="000000"/>
                </a:solidFill>
                <a:latin typeface="Calibri"/>
              </a:rPr>
              <a:t>	</a:t>
            </a:r>
            <a:r>
              <a:rPr b="0" lang="es-ES" sz="1400" spc="-1" strike="noStrike">
                <a:solidFill>
                  <a:srgbClr val="000000"/>
                </a:solidFill>
                <a:latin typeface="Calibri"/>
              </a:rPr>
              <a:t>En los casos donde haya deudores solidarios o relacionados a sucesiones, bastará la comparecencia de uno de los deudores o miembros de la sucesión para que se celebre la vista o acto de mediación y negociación, mediando autorización expresa del resto de los deudores solidarios o miembros de la sucesión, a satisfacción del Tribunal. Cuando uno de estos codeudores o coherederos se negare a autorizar dicha representación, quedará obligado a comparecer personalmente al acto de mediación y negociación, so pena de desacato, en cuyo caso el no compareciente se expone a ser declarado en rebeldía, previa solicitud de parte, y que sus alegaciones sean suprimidas o eliminadas. En los casos en que los deudores solidarios o los relacionados a sucesiones hayan autorizado a uno solo de los codeudores a comparecer en su representación para que se celebre la vista o acto de mediación y negociación, y que siendo así se logre un acuerdo, el acuerdo alcanzado con el acreedor será vinculante en derecho para todas las partes una vez sea ratificado. De no ser ratificado, cualquiera de las partes podrá solicitar que se de por terminado el proceso de mediación. Lo aquí dispuesto será un requisito jurisdiccional en los procesos a llevarse a cabo ante los Tribunales de Puerto Rico que envuelvan un proceso para la ejecución de una hipoteca garantizada con una propiedad residencial que constituya una vivienda personal del deudor o de los deudores sin cuyo cumplimiento no podrá dictarse sentencia o celebrarse la venta judicial de la propiedad gravada con la hipoteca cuya  ejecución se solicita.</a:t>
            </a:r>
            <a:endParaRPr b="0" lang="en-US" sz="1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t. de Art. 3</a:t>
            </a:r>
            <a:endParaRPr b="0" lang="en-US" sz="3300" spc="-1" strike="noStrike">
              <a:solidFill>
                <a:srgbClr val="000000"/>
              </a:solidFill>
              <a:latin typeface="Calibri Light"/>
            </a:endParaRPr>
          </a:p>
        </p:txBody>
      </p:sp>
      <p:sp>
        <p:nvSpPr>
          <p:cNvPr id="7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De no presentarse el deudor al procedimiento de mediación o de no cumplir con el acuerdo alcanzado con el acreedor hipotecario como resultado del proceso de mediación, la institución financiera actuará de la forma acordada en el contrato o pagaré efectuado el día de la transacción original de hipoteca. De no presentarse el acreedor hipotecario, al procedimiento de mediación, en cualquiera de sus etapas, sin que medie justificación adecuada, o de no actuar de buena fe en cuanto al ofrecimiento de alternativas disponibles, impidiendo que se alcance un acuerdo viable con el deudor, el Tribunal procederá a desestimar la demanda presentada.  El deudor tendrá derecho únicamente a un procedimiento de mediación en la acción civil que se le presente para la ejecución de la hipoteca sobre la propiedad residencial que constituya su vivienda principal, siempre y cuando el deudor hipotecario demandado no se encuentre en rebeldía, o que por alguna razón o sanción sus alegaciones hayan sido suprimidas o eliminadas por el tribunal. Artículo 3, Ley 184 de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quisito Jurisdiccional de la Mediación</a:t>
            </a: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404040"/>
                </a:solidFill>
                <a:latin typeface="open_sansregular"/>
              </a:rPr>
              <a:t>Esta Ley le impone al tribunal la obligación de ordenar la celebración de una vista de mediación en los casos de ejecución de hipoteca de una residencia principal como requisito jurisdiccional salvo en los casos en los que el deudor esté en rebeldía o cuando el tribunal haya eliminado sus alegaciones. Banco Santander de P.R. v. Correa García, </a:t>
            </a:r>
            <a:r>
              <a:rPr b="0" lang="es-ES" sz="2100" spc="-1" strike="noStrike">
                <a:solidFill>
                  <a:srgbClr val="000000"/>
                </a:solidFill>
                <a:latin typeface="open_sansregular"/>
              </a:rPr>
              <a:t>196 DPR 452 (2016).</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open_sansregular"/>
              </a:rPr>
              <a:t>Es importante destacara que el caso de Santader v. Correa fue previo a la enmienda al Artículo 3 de la Ley, en la cual se eliminó el requisito de la contestación a la demanda para que aplique la mediación compulsori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quisito de Buena Fe en la Mediación</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banco recurrido no cumplió con el requisito jurisdiccional de actuar conforme a la buena fe en el proceso de mediación compulsoria requerido por la Ley 184 de 17 de agosto de 2012, al no haber realizado un esfuerzo real de llegar a un acuerdo con los peticionarios, y al no presentarles todas las alternativas disponibles en el mercado para que no perdieran su vivienda. Scotiabank de Puerto Rico v. Rosario Ramos, 205 DPR 537 (2020).</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n casos en que el acreedor incumple con el requisito de buena fe en la mediación y la sanción de la desestimación no está disponible, el tribunal deberá ordenar la celebración de una nueva mediación. Esta decisión no implica que el acreedor -en aras de cumplir con el proceso de mediación- tenga que llegar a un acuerdo con el deudor. Sin embargo, el acreedor debe notificarle al deudor todas las alternativas disponibles en el mercado en ánimo de hacer un esfuerzo real para evitar la ejecución de la vivienda principal del deudor. Scotiabank de Puerto Rico v. Rosario Ramos, 205 DPR 537, (2020).</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y de Ayuda al Deudor Hipotecario, Ley 169 de 2016</a:t>
            </a: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000" spc="-1" strike="noStrike">
                <a:solidFill>
                  <a:srgbClr val="000000"/>
                </a:solidFill>
                <a:latin typeface="Calibri"/>
              </a:rPr>
              <a:t>	</a:t>
            </a:r>
            <a:r>
              <a:rPr b="0" lang="es-ES" sz="1000" spc="-1" strike="noStrike">
                <a:solidFill>
                  <a:srgbClr val="000000"/>
                </a:solidFill>
                <a:latin typeface="Calibri"/>
              </a:rPr>
              <a:t>Artículo 3.-</a:t>
            </a:r>
            <a:r>
              <a:rPr b="0" lang="es-ES_tradnl" sz="1000" spc="-1" strike="noStrike">
                <a:solidFill>
                  <a:srgbClr val="000000"/>
                </a:solidFill>
                <a:latin typeface="Calibri"/>
              </a:rPr>
              <a:t>Obligaciones del Acreedor Hipotecario</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Tan pronto el acreedor hipotecario reciba por escrito un formulario de solicitud de mitigación de pérdidas por parte del deudor hipotecario, el acreedor hipotecario no podrá comenzar un proceso legal de cobro de dinero contra el deudor hipotecario, independientemente la cantidad adeudada o el tiempo que haya transcurrido sin que el deudor hipotecario haya hecho algún pago. Se aclara que dentro del tiempo que haya transcurrido se incluyen los ciento veinte (120) días de impago que podría tener un deudor hipotecario y que le daría la oportunidad al acreedor hipotecario de comenzar una demanda en cobro de dinero y ejecución hipotecaria. Bajo esta Ley, el acreedor hipotecario no podría comenzar un proceso legal, inclusive si el deudor posee ciento veinte (120) días de impago o más, si se comenzó un proceso de mitigación de pérdidas en o antes de estos ciento veinte (120) días y el deudor hipotecario no haya sido evaluado anteriormente dentro del término del antes mencionado periodo. Disponiéndose, que un acreedor hipotecario que cumple con lo dispuesto en 12 CFR 1024.41, según promulgado por el </a:t>
            </a:r>
            <a:r>
              <a:rPr b="0" i="1" lang="es-ES_tradnl" sz="1000" spc="-1" strike="noStrike">
                <a:solidFill>
                  <a:srgbClr val="000000"/>
                </a:solidFill>
                <a:latin typeface="Calibri"/>
              </a:rPr>
              <a:t>Consumer Financial Protection Bureau</a:t>
            </a:r>
            <a:r>
              <a:rPr b="0" lang="es-ES_tradnl" sz="1000" spc="-1" strike="noStrike">
                <a:solidFill>
                  <a:srgbClr val="000000"/>
                </a:solidFill>
                <a:latin typeface="Calibri"/>
              </a:rPr>
              <a:t>, se entenderá que está en cumplimiento con lo dispuesto en este Artículo.</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En el caso en que ya haya comenzado un proceso legal de cobro de dinero y ejecución hipotecaria, y el deudor hipotecario haya entregado el formulario solicitando mitigación de pérdidas y sometido los documentos requeridos para la evaluación de su caso el proceso legal deberá detenerse, según las disposiciones del Reglamento X, mientras se culmina el proceso de cualificación del deudor hipotecario y </a:t>
            </a:r>
            <a:r>
              <a:rPr b="0" lang="es-ES" sz="1000" spc="-1" strike="noStrike">
                <a:solidFill>
                  <a:srgbClr val="000000"/>
                </a:solidFill>
                <a:latin typeface="Calibri"/>
              </a:rPr>
              <a:t>éste</a:t>
            </a:r>
            <a:r>
              <a:rPr b="0" lang="es-ES_tradnl" sz="1000" spc="-1" strike="noStrike">
                <a:solidFill>
                  <a:srgbClr val="000000"/>
                </a:solidFill>
                <a:latin typeface="Calibri"/>
              </a:rPr>
              <a:t> adviene en conocimiento de que cualifica o no.  Lo anterior no aplicará en aquellos casos en los cuales se haya dictado una sentencia por el tribunal correspondiente, y la misma sea final, firme e inapelable.</a:t>
            </a:r>
            <a:endParaRPr b="0" lang="en-US" sz="10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_tradnl" sz="1000" spc="-1" strike="noStrike">
                <a:solidFill>
                  <a:srgbClr val="000000"/>
                </a:solidFill>
                <a:latin typeface="Calibri"/>
              </a:rPr>
              <a:t>	</a:t>
            </a:r>
            <a:r>
              <a:rPr b="0" lang="es-ES_tradnl" sz="1000" spc="-1" strike="noStrike">
                <a:solidFill>
                  <a:srgbClr val="000000"/>
                </a:solidFill>
                <a:latin typeface="Calibri"/>
              </a:rPr>
              <a:t>Artículo 4.-Será responsabilidad del acreedor hipotecario orientar al deudor hipotecario de las alternativas de mitigación de pérdidas que tiene disponible tanto a nivel federal como local. También debe asistir al deudor en el proceso de cumplimentar la solicitud de mitigación de pérdidas, de buena fe y cumpliendo siempre con los parámetros federales y locales pertinentes. A tales efectos, durante el proceso de mitigación de pérdidas, el acreedor hipotecario no podrá negarse a aceptar pagos parciales a la deuda.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Objetivos del Curso</a:t>
            </a:r>
            <a:endParaRPr b="0" lang="en-US" sz="3300" spc="-1" strike="noStrike">
              <a:solidFill>
                <a:srgbClr val="000000"/>
              </a:solidFill>
              <a:latin typeface="Calibri Light"/>
            </a:endParaRPr>
          </a:p>
        </p:txBody>
      </p:sp>
      <p:sp>
        <p:nvSpPr>
          <p:cNvPr id="43" name=""/>
          <p:cNvSpPr txBox="1"/>
          <p:nvPr/>
        </p:nvSpPr>
        <p:spPr>
          <a:xfrm>
            <a:off x="628560" y="1825200"/>
            <a:ext cx="7886880" cy="4351320"/>
          </a:xfrm>
          <a:prstGeom prst="rect">
            <a:avLst/>
          </a:prstGeom>
          <a:noFill/>
          <a:ln w="0">
            <a:noFill/>
          </a:ln>
        </p:spPr>
        <p:txBody>
          <a:bodyPr anchor="t">
            <a:normAutofit/>
          </a:bodyPr>
          <a:p>
            <a:pPr marL="169920" indent="-169920">
              <a:lnSpc>
                <a:spcPct val="107000"/>
              </a:lnSpc>
              <a:spcAft>
                <a:spcPts val="799"/>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800" spc="-1" strike="noStrike">
                <a:solidFill>
                  <a:srgbClr val="000000"/>
                </a:solidFill>
                <a:latin typeface="Calibri"/>
                <a:ea typeface="Calibri"/>
              </a:rPr>
              <a:t>Proveer a los abogados practicantes herramientas y estrategias para la representación de los deudores en los procesos de ejecución de hipoteca.</a:t>
            </a:r>
            <a:endParaRPr b="0" lang="en-US" sz="1800" spc="-1" strike="noStrike">
              <a:solidFill>
                <a:srgbClr val="000000"/>
              </a:solidFill>
              <a:latin typeface="Calibri"/>
            </a:endParaRPr>
          </a:p>
          <a:p>
            <a:pPr marL="169920" indent="-169920">
              <a:lnSpc>
                <a:spcPct val="107000"/>
              </a:lnSpc>
              <a:spcAft>
                <a:spcPts val="799"/>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800" spc="-1" strike="noStrike">
                <a:solidFill>
                  <a:srgbClr val="000000"/>
                </a:solidFill>
                <a:latin typeface="Calibri"/>
                <a:ea typeface="Calibri"/>
              </a:rPr>
              <a:t>Proveer a los abogados practicantes un análisis de las leyes y regulaciones que protegen a los deudores frente a los acreedores.</a:t>
            </a:r>
            <a:endParaRPr b="0" lang="en-US" sz="1800" spc="-1" strike="noStrike">
              <a:solidFill>
                <a:srgbClr val="000000"/>
              </a:solidFill>
              <a:latin typeface="Calibri"/>
            </a:endParaRPr>
          </a:p>
          <a:p>
            <a:pPr marL="169920" indent="-169920">
              <a:lnSpc>
                <a:spcPct val="107000"/>
              </a:lnSpc>
              <a:spcAft>
                <a:spcPts val="799"/>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800" spc="-1" strike="noStrike">
                <a:solidFill>
                  <a:srgbClr val="000000"/>
                </a:solidFill>
                <a:latin typeface="Calibri"/>
                <a:ea typeface="Calibri"/>
              </a:rPr>
              <a:t>Discutir las leyes y jurisprudencia de las distintas facetas en los casos que incluyen el aspecto procesal y sustantivo. </a:t>
            </a:r>
            <a:endParaRPr b="0" lang="en-US" sz="1800" spc="-1" strike="noStrike">
              <a:solidFill>
                <a:srgbClr val="000000"/>
              </a:solidFill>
              <a:latin typeface="Calibri"/>
            </a:endParaRPr>
          </a:p>
          <a:p>
            <a:pPr marL="169920" indent="-169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920" indent="-169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920" indent="-169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920" indent="-169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ómo los Tribunales han resuelto controversias referentes a las Leyes 184 de 2012 y 169 de 2016. </a:t>
            </a:r>
            <a:endParaRPr b="0" lang="en-US" sz="3300" spc="-1" strike="noStrike">
              <a:solidFill>
                <a:srgbClr val="000000"/>
              </a:solidFill>
              <a:latin typeface="Calibri Light"/>
            </a:endParaRPr>
          </a:p>
        </p:txBody>
      </p:sp>
      <p:sp>
        <p:nvSpPr>
          <p:cNvPr id="79" name=""/>
          <p:cNvSpPr txBox="1"/>
          <p:nvPr/>
        </p:nvSpPr>
        <p:spPr>
          <a:xfrm>
            <a:off x="628560" y="1825200"/>
            <a:ext cx="7886880" cy="4667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Federal National Mortgage Association v. </a:t>
            </a:r>
            <a:r>
              <a:rPr b="0" lang="es-ES" sz="1600" spc="-1" strike="noStrike">
                <a:solidFill>
                  <a:srgbClr val="000000"/>
                </a:solidFill>
                <a:latin typeface="Calibri"/>
              </a:rPr>
              <a:t>SUCESIÓN DE JUAN ANTONIO IGLESIAS MONTAÑEZ, 2017 TA 3133. En este caso el Tribunal de Apelaciones indicó que la parte demandante se retiró del proceso de mediación, debido a que la parte demandada apelante no produjo los documentos que se le requirieron dentro de un término “razonable”, sino que esperó cerca de tres meses en producirlos y pretendía que la parte demandante permaneciera en la mediación. Tribunal de Apelaciones devolvió el caso al TPI indicandon que las razones expuestas por la parte demandante apelada para justificar el retiro unilateral del proceso de mediación fueron irrazonables y contrarias al espíritu remedial de la Ley Núm. 184</a:t>
            </a:r>
            <a:r>
              <a:rPr b="0" lang="es-E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000000"/>
                </a:solidFill>
                <a:latin typeface="Calibri"/>
              </a:rPr>
              <a:t>BPPR v. LINN MANUEL ALVARADO CONDE 2017 TA 2976. El caso fue referido a mediación y mediadora emitió la Notificación al Tribunal en Casos de Ejecución de Hipoteca, indicando que el acreedor hipotecario </a:t>
            </a:r>
            <a:r>
              <a:rPr b="1" lang="es-ES" sz="1600" spc="-1" strike="noStrike">
                <a:solidFill>
                  <a:srgbClr val="000000"/>
                </a:solidFill>
                <a:latin typeface="Calibri"/>
              </a:rPr>
              <a:t>no brindó </a:t>
            </a:r>
            <a:r>
              <a:rPr b="0" lang="es-ES" sz="1600" spc="-1" strike="noStrike">
                <a:solidFill>
                  <a:srgbClr val="000000"/>
                </a:solidFill>
                <a:latin typeface="Calibri"/>
              </a:rPr>
              <a:t>a los apelantes la orientación requerida por la Ley núm. 184-2012. Devolvió el caso al TPI indicando que solo en el caso en que el deudor no se presenta al procedimiento de mediación o no cumple con el acuerdo alcanzado con el acreedor hipotecario, es que la institución financiera actuará de la forma acordada en el contrato o pagaré…</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000000"/>
                </a:solidFill>
                <a:latin typeface="Calibri"/>
              </a:rPr>
              <a:t>Firstbank v. Alba Yannira Torres, 2019 TA 1684. Tribunal de Apelaciones paralizó la Orden de Ejecución de Sentencia hasta que se le informa al TPI del resultado del proceso de loss mi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t.</a:t>
            </a:r>
            <a:endParaRPr b="0" lang="en-US" sz="33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Scotiabank v. Juan Núñez Sánchez, 2018 TA 3044. El Tribunal de Apelaciones dejó sin efecto la Sentencia dictada en rebeldía, así como todas las determinaciones post-sentencia, incluyendo el lanzamiento por entender que Scotiabank incumplió con lo dispuesto en la Ley 169-2016</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ual Tracking</a:t>
            </a: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Scotiabank v. Juan Carlos Pérez, 2019 TA 2125. El TPI desestimó el caso por Dual Tracking. El Tribunal de Apelaciones confirmó la Sentencia desestimando la demanda, indicando que la acción incoada por la demandante fue presentada el 5 de abril de 2016, es decir, previo a la culminación del proceso de mitigación que los apelados iniciaron el 17 de diciembre de 2015, resulta patente que dicha acción legal constituyó una actuación paralela al proceso administrativo de mitigación en el sentido dual (dual- tracking”), prohibido por el Reglamento X.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Querellas por Incumplimiento</a:t>
            </a: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800" spc="-1" strike="noStrike">
                <a:solidFill>
                  <a:srgbClr val="000000"/>
                </a:solidFill>
                <a:latin typeface="Verdana"/>
                <a:ea typeface="Times New Roman"/>
              </a:rPr>
              <a:t>En Gay</a:t>
            </a:r>
            <a:r>
              <a:rPr b="0" lang="en-US" sz="1800" spc="-1" strike="noStrike">
                <a:solidFill>
                  <a:srgbClr val="000000"/>
                </a:solidFill>
                <a:latin typeface="Verdana"/>
                <a:ea typeface="Times New Roman"/>
              </a:rPr>
              <a:t>á Nigaglioni v. BPPR, 2020 TA 1599 el TA reconoció la facultad de la Oficina del Comisionado de Instituciones Financieras para </a:t>
            </a:r>
            <a:r>
              <a:rPr b="0" lang="es-PR" sz="1800" spc="-1" strike="noStrike">
                <a:solidFill>
                  <a:srgbClr val="000000"/>
                </a:solidFill>
                <a:latin typeface="Verdana"/>
                <a:ea typeface="Times New Roman"/>
              </a:rPr>
              <a:t>investigar los procedimientos seguidos por el BPPR en la evaluación de su solicitud ante el Programa de “Loss Mitigation”, aun en el escenario de una denegatoria a solicitud de modificación del préstamo hipotecario. Y si luego de dicha evaluación se determina que no se ha cumplido con el procedimiento de ley establecido, compeler a dicha institución a dar fiel cumplimiento a la referida reglament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Inscripción de la Hipoteca</a:t>
            </a:r>
            <a:endParaRPr b="0" lang="en-US" sz="33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fontScale="89000"/>
          </a:bodyPr>
          <a:p>
            <a:pPr marL="152280" indent="-1522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La Hipoteca en PR es de carácter constitutive, lo que implica que tiene que estar en inscrita en el Registro de la Propiedad para quedar perfeccionada. </a:t>
            </a:r>
            <a:endParaRPr b="0" lang="en-US" sz="1600" spc="-1" strike="noStrike">
              <a:solidFill>
                <a:srgbClr val="000000"/>
              </a:solidFill>
              <a:latin typeface="Calibri"/>
            </a:endParaRPr>
          </a:p>
          <a:p>
            <a:pPr marL="152280" indent="-1522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La Ley 216 de 2010, Ley para Agilizar el Registro de la Propiedad, establece que </a:t>
            </a:r>
            <a:r>
              <a:rPr b="0" lang="es-ES" sz="1600" spc="-1" strike="noStrike">
                <a:solidFill>
                  <a:srgbClr val="404040"/>
                </a:solidFill>
                <a:latin typeface="open_sansregular"/>
              </a:rPr>
              <a:t>Todos los documentos presentados en el Registro de la Propiedad al 30 de abril de 2010 quedan autmáticamente inscritos sin mediar calificación por el Registrador. Establece como excepciones las segregaciones, agrupaciones, agregaciones, expropiaciones, expedientes de dominio, rectificación de cabida o descripción de remanente, constitución de Régimen de Propiedad Horizontal, y documentos posteriores a los indicados antes. </a:t>
            </a:r>
            <a:endParaRPr b="0" lang="en-US" sz="1600" spc="-1" strike="noStrike">
              <a:solidFill>
                <a:srgbClr val="000000"/>
              </a:solidFill>
              <a:latin typeface="Calibri"/>
            </a:endParaRPr>
          </a:p>
          <a:p>
            <a:pPr marL="152280" indent="-152280">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404040"/>
                </a:solidFill>
                <a:latin typeface="open_sansregular"/>
              </a:rPr>
              <a:t>En DLJ Mortgage v. García Ramos, 2021 TSPR 66, el TSPR resolvió que: 1) los asientos en el Registro de la Propiedad, inscritos en virtud de la Ley para Agilizar el Registro de la Propiedad se presumen correctos y exactos; 2) dichos asientos están bajo la salvaguarda de los tribunales; 3) impugnada la validez de un asiento, los tribunales deben pasar juicio sobre si al momento de inscribir se cumplieron los requisitos de la Ley Núm. 216-2010 y la Ley Hipotecaria; y 4) ello es así, puesto que el propósito de la Ley 216-2010 fue adelantar los trabajos del Registro de la Propiedad y combatir el retraso en la calificación e inscripción de documentos públicos, no convertir lo irreal en real.</a:t>
            </a:r>
            <a:endParaRPr b="0" lang="en-US" sz="1600" spc="-1" strike="noStrike">
              <a:solidFill>
                <a:srgbClr val="000000"/>
              </a:solidFill>
              <a:latin typeface="Calibri"/>
            </a:endParaRPr>
          </a:p>
          <a:p>
            <a:pPr marL="152280" indent="-1522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100"/>
            </a:b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t.</a:t>
            </a:r>
            <a:endParaRPr b="0" lang="en-US" sz="3300" spc="-1" strike="noStrike">
              <a:solidFill>
                <a:srgbClr val="000000"/>
              </a:solidFill>
              <a:latin typeface="Calibri Light"/>
            </a:endParaRPr>
          </a:p>
        </p:txBody>
      </p:sp>
      <p:sp>
        <p:nvSpPr>
          <p:cNvPr id="89" name=""/>
          <p:cNvSpPr txBox="1"/>
          <p:nvPr/>
        </p:nvSpPr>
        <p:spPr>
          <a:xfrm>
            <a:off x="628560" y="1825560"/>
            <a:ext cx="7886880" cy="4556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n Reverse Mortgage Funding v. Sucesión de Rosalía Betancourt Matos, 2016 TA 1915, el Tribunal de Apelaciones determine, que no procedía la desestimación por falta de inscripción a pesar de ser un caso In Rem. Indicó que en el caso había la acción mixta de cobro de dinero y ejecución de hipoteca, esto a pesar de ser un préstamo de hipoteca revertida.</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mportante revisar qué establece el pagaré y la escritura de hipoteca en cuanto a si el deudor responde con sus bienes además de la propiedad. </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n Federal National Mortgage Association v. Eileen Guiot Santiago, 2017 TA 1298, el Tribunal de Apelaciones revocó una orden de embargo sobre una propiedad cobijada con la protección de Hogar Seguro.  Indica el TA “</a:t>
            </a:r>
            <a:r>
              <a:rPr b="0" lang="es-ES" sz="1800" spc="-1" strike="noStrike">
                <a:solidFill>
                  <a:srgbClr val="000000"/>
                </a:solidFill>
                <a:latin typeface="Calibri"/>
              </a:rPr>
              <a:t>la garantía de un crédito personal no se constituye en garantía real-hipotecaria, hasta que esté inscrita en el Registro de la Propiedad. En consecuencia, ante la inexistencia de una hipoteca que grave la propiedad de la peticionaria, y siendo dicho inmueble hogar seguro bajo la Ley 195-2011, erró el TPI al ordenar la anotación de embargo en el Registro de la Propie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Notificación de la Subasta</a:t>
            </a:r>
            <a:endParaRPr b="0" lang="en-US" sz="3300" spc="-1" strike="noStrike">
              <a:solidFill>
                <a:srgbClr val="000000"/>
              </a:solidFill>
              <a:latin typeface="Calibri Light"/>
            </a:endParaRPr>
          </a:p>
        </p:txBody>
      </p:sp>
      <p:sp>
        <p:nvSpPr>
          <p:cNvPr id="91" name=""/>
          <p:cNvSpPr txBox="1"/>
          <p:nvPr/>
        </p:nvSpPr>
        <p:spPr>
          <a:xfrm>
            <a:off x="628560" y="1825560"/>
            <a:ext cx="7886880" cy="4556160"/>
          </a:xfrm>
          <a:prstGeom prst="rect">
            <a:avLst/>
          </a:prstGeom>
          <a:noFill/>
          <a:ln w="0">
            <a:noFill/>
          </a:ln>
        </p:spPr>
        <p:txBody>
          <a:bodyPr anchor="t">
            <a:normAutofit fontScale="98000"/>
          </a:bodyPr>
          <a:p>
            <a:pPr marL="167760" indent="-167760">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404040"/>
                </a:solidFill>
                <a:latin typeface="open_sansregular"/>
              </a:rPr>
              <a:t>Regla 51.7 de Procedimiento Civil</a:t>
            </a:r>
            <a:endParaRPr b="0" lang="en-US" sz="1600" spc="-1" strike="noStrike">
              <a:solidFill>
                <a:srgbClr val="000000"/>
              </a:solidFill>
              <a:latin typeface="Calibri"/>
            </a:endParaRPr>
          </a:p>
          <a:p>
            <a:pPr marL="167760" indent="-167760">
              <a:lnSpc>
                <a:spcPct val="90000"/>
              </a:lnSpc>
              <a:spcBef>
                <a:spcPts val="751"/>
              </a:spcBef>
              <a:buClr>
                <a:srgbClr val="404040"/>
              </a:buClr>
              <a:buFont typeface="open_sansregular"/>
              <a:buAutoNum type="alphaL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404040"/>
                </a:solidFill>
                <a:latin typeface="open_sansregular"/>
              </a:rPr>
              <a:t>Aviso de venta.— Antes de verificarse la venta de los bienes objeto de la ejecución, ésta deberá darse a la publicidad por espacio de dos (2) semanas mediante avisos por escrito visiblemente colocados en tres (3) sitios públicos del municipio en que ha de celebrarse dicha venta, tales como la alcaldía, el tribunal y la colecturía.</a:t>
            </a:r>
            <a:br>
              <a:rPr sz="1600"/>
            </a:br>
            <a:br>
              <a:rPr sz="1600"/>
            </a:br>
            <a:r>
              <a:rPr b="0" lang="es-ES" sz="1600" spc="-1" strike="noStrike">
                <a:solidFill>
                  <a:srgbClr val="404040"/>
                </a:solidFill>
                <a:latin typeface="open_sansregular"/>
              </a:rPr>
              <a:t>Dicho aviso será publicado, además, mediante edictos dos (2) veces en un diario de circulación general en el Estado Libre Asociado de Puerto Rico, y por espacio de dos (2) semanas consecutivas, con un intervalo de por lo menos siete días entre ambas publicaciones. Copia del aviso será enviada al(a la) deudor(a) por sentencia y a su abogado o abogada vía correo certificado con acuse de recibo dentro de los primeros cinco (5) días de publicado el primer edicto, siempre que haya comparecido al pleito. Si el(la) deudor(a) por sentencia no comparece al pleito, la notificación será enviada vía correo certificado con acuse de recibo </a:t>
            </a:r>
            <a:r>
              <a:rPr b="1" lang="es-ES" sz="1600" spc="-1" strike="noStrike">
                <a:solidFill>
                  <a:srgbClr val="404040"/>
                </a:solidFill>
                <a:latin typeface="open_sansregular"/>
              </a:rPr>
              <a:t>a la última dirección conocida.</a:t>
            </a:r>
            <a:endParaRPr b="0" lang="en-US" sz="16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mportante, si el deudor le notificó al banco en un proceso de LM o de alguna otra manera una dirección distinta a la que tiene el acreedor para hacer las notificaciones y no se notifica a dicha dirección, se incumple con el postulado de la Regla 51.7 de notificar a la última dirección conocid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onclusión y Cierre </a:t>
            </a:r>
            <a:endParaRPr b="0" lang="en-US" sz="33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regunt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a Aceleración de la Deuda</a:t>
            </a:r>
            <a:endParaRPr b="0" lang="en-US" sz="3300" spc="-1" strike="noStrike">
              <a:solidFill>
                <a:srgbClr val="000000"/>
              </a:solidFill>
              <a:latin typeface="Calibri Light"/>
            </a:endParaRPr>
          </a:p>
        </p:txBody>
      </p:sp>
      <p:sp>
        <p:nvSpPr>
          <p:cNvPr id="4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n acreedor hipotecario puede declarar vencida la deuda si el deudor incumple con sus obligaciones establecidas en el pagaré y la escritura de hipoteca. La razón principal para declarar vencida la deuda en los préstamos hipotecarios convencionales, es la falta de pag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s bien importante verificar qué establece el pagaré y la escritura de hipoteca en cuanto a la notificación que el préstamo fue declarado vencido. Si la notificación no se envía conforme a lo establecido, el deudor puede solicitar la desestimación por el caso no estar madur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érmino para que el acreedor pueda iniciar una acción de ejecución de hipoteca</a:t>
            </a:r>
            <a:endParaRPr b="0" lang="en-US" sz="33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n acreedor no puede inicar un proceso de ejecución de Hipoteca hasta que el deudor no lleve menos de 120 días en mor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 el deudor presenta una solicitud de Loss Mitigation en o antes de los 120 días desde que entró en mora, el acreedor no puede presenter la demanda hasta que ocurra los siguiente: (i) el acreedor notifique al deudor que no es eligible a ninguna de las alternativas de mitigación de pérdidas, o, de haberse presentado apelación a la determinación, haya sido denegada; (ii) el deudor rechace las alternativas de mitigación ofrecidas; o (iii) el deudor incumpla con el acuerdo de mitigación de pérdid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61680" y="404280"/>
            <a:ext cx="7886520" cy="1325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a Demanda:</a:t>
            </a:r>
            <a:br>
              <a:rPr sz="3300"/>
            </a:br>
            <a:r>
              <a:rPr b="0" lang="en-US" sz="3300" spc="-1" strike="noStrike">
                <a:solidFill>
                  <a:srgbClr val="000000"/>
                </a:solidFill>
                <a:latin typeface="Calibri Light"/>
              </a:rPr>
              <a:t>Término para diligenciar el emplazamiento</a:t>
            </a:r>
            <a:endParaRPr b="0" lang="en-US" sz="3300" spc="-1" strike="noStrike">
              <a:solidFill>
                <a:srgbClr val="000000"/>
              </a:solidFill>
              <a:latin typeface="Calibri Light"/>
            </a:endParaRPr>
          </a:p>
        </p:txBody>
      </p:sp>
      <p:sp>
        <p:nvSpPr>
          <p:cNvPr id="49" name=""/>
          <p:cNvSpPr txBox="1"/>
          <p:nvPr/>
        </p:nvSpPr>
        <p:spPr>
          <a:xfrm>
            <a:off x="628560" y="1825560"/>
            <a:ext cx="7886880" cy="4556160"/>
          </a:xfrm>
          <a:prstGeom prst="rect">
            <a:avLst/>
          </a:prstGeom>
          <a:noFill/>
          <a:ln w="0">
            <a:noFill/>
          </a:ln>
        </p:spPr>
        <p:txBody>
          <a:bodyPr anchor="t">
            <a:normAutofit fontScale="96000"/>
          </a:bodyPr>
          <a:p>
            <a:pPr marL="164160" indent="-164160">
              <a:lnSpc>
                <a:spcPct val="9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404040"/>
                </a:solidFill>
                <a:latin typeface="open_sansregular"/>
              </a:rPr>
              <a:t>El emplazamiento será diligenciado en el término de ciento veinte (120) días a partir de la presentación de la demanda o de la fecha de expedición del emplazamiento por edicto. El Secretario o Secretaria deberá expedir los emplazamientos el mismo día en que se presenta la demanda. Si el Secretario o Secretaria no los expide el mismo día, el tiempo que demore será el mismo tiempo adicional que los tribunales otorgarán para diligenciar los emplazamientos una vez la parte demandante haya presentado de forma oportuna una solicitud de prórroga. 32 LPRA Ap. V R 4.3</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único motivo por el cual explícitamente se reconoce una prórroga es aquella cuando la expedición del emplazamiento no ocurre el mismo día debido al trámite en la Secretaría del Tribunal, mediando solicitud previa al juez. Comité Asesor Permanente de las Reglas de Procedimiento Civil, Informe de Reglas de Procedimiento Civil, págs. 34-35</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demandante tiene la responsabilidad de presentar los proyectos de emplazamiento junto a la demanda para que sean expedidos por la Secretaría. Si el demandante no presenta los emplazamientos con la demanda, el término empieza a transcurrir con la presentación de la demand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mplazamiento y la doble desestimación o doble desistimiento</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Un primer incumplimiento con el término de 120 días para diligenciar el emplazamiento conlleva la desestimación sin perjuicio. No obstante, </a:t>
            </a:r>
            <a:r>
              <a:rPr b="1" lang="es-ES" sz="2100" spc="-1" strike="noStrike">
                <a:solidFill>
                  <a:srgbClr val="000000"/>
                </a:solidFill>
                <a:latin typeface="Calibri"/>
              </a:rPr>
              <a:t>un segundo incumplimiento tendrá el efecto de una adjudicación en los méritos, es decir la desestimación será con perjuicio</a:t>
            </a:r>
            <a:r>
              <a:rPr b="0" lang="es-ES" sz="2100" spc="-1" strike="noStrike">
                <a:solidFill>
                  <a:srgbClr val="000000"/>
                </a:solidFill>
                <a:latin typeface="Calibri"/>
              </a:rPr>
              <a:t>. </a:t>
            </a:r>
            <a:r>
              <a:rPr b="0" i="1" lang="es-ES" sz="2100" spc="-1" strike="noStrike">
                <a:solidFill>
                  <a:srgbClr val="000000"/>
                </a:solidFill>
                <a:latin typeface="Calibri"/>
              </a:rPr>
              <a:t>Bernier González v. Rodríguez Becerra, </a:t>
            </a:r>
            <a:r>
              <a:rPr b="0" lang="es-ES" sz="2100" spc="-1" strike="noStrike">
                <a:solidFill>
                  <a:srgbClr val="000000"/>
                </a:solidFill>
                <a:latin typeface="Calibri"/>
              </a:rPr>
              <a:t>2018 TSPR 114.</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Si un demandante presenta el aviso de desistimiento, y  este ha desistido anteriormente de otro pleito </a:t>
            </a:r>
            <a:r>
              <a:rPr b="1" lang="es-ES" sz="2100" spc="-1" strike="noStrike">
                <a:solidFill>
                  <a:srgbClr val="000000"/>
                </a:solidFill>
                <a:latin typeface="Calibri"/>
              </a:rPr>
              <a:t>que incluya la misma reclamación</a:t>
            </a:r>
            <a:r>
              <a:rPr b="0" lang="es-ES" sz="2100" spc="-1" strike="noStrike">
                <a:solidFill>
                  <a:srgbClr val="000000"/>
                </a:solidFill>
                <a:latin typeface="Calibri"/>
              </a:rPr>
              <a:t> ante el Tribunal, o algún tribunal federal o de cualquier estado de Estados Unidos, el desistimiento será con perjuicio. </a:t>
            </a:r>
            <a:r>
              <a:rPr b="0" i="1" lang="pt-BR" sz="2100" spc="-1" strike="noStrike">
                <a:solidFill>
                  <a:srgbClr val="000000"/>
                </a:solidFill>
                <a:latin typeface="Calibri"/>
              </a:rPr>
              <a:t>Pramco CV6, LLC v. Delgado Cruz, </a:t>
            </a:r>
            <a:r>
              <a:rPr b="0" lang="en-US" sz="2100" spc="-1" strike="noStrike">
                <a:solidFill>
                  <a:srgbClr val="000000"/>
                </a:solidFill>
                <a:latin typeface="Calibri"/>
              </a:rPr>
              <a:t>184 DPR 453 (2012).</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mplazamiento por edicto</a:t>
            </a: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800" spc="-1" strike="noStrike">
                <a:solidFill>
                  <a:srgbClr val="000000"/>
                </a:solidFill>
                <a:latin typeface="Times New Roman"/>
                <a:ea typeface="Times New Roman"/>
              </a:rPr>
              <a:t>Para poder llevar a cabo un emplazamiento mediante edictos es necesario que la parte interesada asegure al tribunal que ha sido diligente al tratar de localizar a la parte demandada para lograr el emplazamiento personal y que, a pesar de las diligencias realizadas, no ha sido posible localizarla. Por esto, y para que el tribunal se encuentre en la posición de determinar que realmente se llevaron a cabo dichas diligencias, </a:t>
            </a:r>
            <a:r>
              <a:rPr b="1" lang="es-PR" sz="1800" spc="-1" strike="noStrike">
                <a:solidFill>
                  <a:srgbClr val="000000"/>
                </a:solidFill>
                <a:latin typeface="Times New Roman"/>
                <a:ea typeface="Times New Roman"/>
              </a:rPr>
              <a:t>el emplazador deberá prestar una declaración jurada en la cual detalle las gestiones realizadas por él para localizar a la parte demandada</a:t>
            </a:r>
            <a:r>
              <a:rPr b="0" lang="es-PR" sz="1800" spc="-1" strike="noStrike">
                <a:solidFill>
                  <a:srgbClr val="000000"/>
                </a:solidFill>
                <a:latin typeface="Times New Roman"/>
                <a:ea typeface="Times New Roman"/>
              </a:rPr>
              <a:t>. Sólo cuando se demuestre de forma fehaciente el hecho de que se han llevado a cabo aquellas diligencias potencialmente efectivas a los fines de encontrar al demandado, puede el tribunal conceder el permiso para emplazarlo mediante un edicto. </a:t>
            </a:r>
            <a:r>
              <a:rPr b="0" i="1" lang="es-PR" sz="1800" spc="-1" strike="noStrike">
                <a:solidFill>
                  <a:srgbClr val="000000"/>
                </a:solidFill>
                <a:latin typeface="Times New Roman"/>
                <a:ea typeface="Times New Roman"/>
              </a:rPr>
              <a:t>Lanzó Llanos v. Banco de la Vivienda, </a:t>
            </a:r>
            <a:r>
              <a:rPr b="0" lang="es-PR" sz="1800" spc="-1" strike="noStrike">
                <a:solidFill>
                  <a:srgbClr val="000000"/>
                </a:solidFill>
                <a:latin typeface="Times New Roman"/>
                <a:ea typeface="Times New Roman"/>
              </a:rPr>
              <a:t>133 DPR 507 (1993)</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mplazamiento por edictos a SLG</a:t>
            </a:r>
            <a:endParaRPr b="0" lang="en-US" sz="3300" spc="-1" strike="noStrike">
              <a:solidFill>
                <a:srgbClr val="000000"/>
              </a:solidFill>
              <a:latin typeface="Calibri Light"/>
            </a:endParaRPr>
          </a:p>
        </p:txBody>
      </p:sp>
      <p:sp>
        <p:nvSpPr>
          <p:cNvPr id="55" name=""/>
          <p:cNvSpPr txBox="1"/>
          <p:nvPr/>
        </p:nvSpPr>
        <p:spPr>
          <a:xfrm>
            <a:off x="628560" y="172368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400" spc="-1" strike="noStrike">
                <a:solidFill>
                  <a:srgbClr val="000000"/>
                </a:solidFill>
                <a:latin typeface="Calibri"/>
              </a:rPr>
              <a:t>Cuando se vaya a demandar a una Sociedad Legal de Bines Gananciales, la misma debe ser emplazada conforme a derecho. Es decir, a través de ambos cónyuges. En específico, se ha establecido que cuando estamos ante un caso en el cual se demanda a </a:t>
            </a:r>
            <a:r>
              <a:rPr b="1" lang="es-ES" sz="1400" spc="-1" strike="noStrike">
                <a:solidFill>
                  <a:srgbClr val="000000"/>
                </a:solidFill>
                <a:latin typeface="Calibri"/>
              </a:rPr>
              <a:t>la Sociedad Legal de Bienes Gananciales, esta debe ser emplazada a través de ambos cónyuges por sí y en representación de la Sociedad Legal de Bienes Gananciales compuesta por ambos para poder adquirir jurisdicción sobre esta</a:t>
            </a:r>
            <a:r>
              <a:rPr b="0" lang="es-ES" sz="1400" spc="-1" strike="noStrike">
                <a:solidFill>
                  <a:srgbClr val="000000"/>
                </a:solidFill>
                <a:latin typeface="Calibri"/>
              </a:rPr>
              <a:t>. </a:t>
            </a:r>
            <a:r>
              <a:rPr b="0" i="1" lang="es-PR" sz="1400" spc="-1" strike="noStrike">
                <a:solidFill>
                  <a:srgbClr val="000000"/>
                </a:solidFill>
                <a:latin typeface="Arial"/>
                <a:ea typeface="Calibri"/>
              </a:rPr>
              <a:t>Torres Zayas v. Montano Gómez </a:t>
            </a:r>
            <a:r>
              <a:rPr b="0" i="1" lang="es-PR" sz="1400" spc="-1" strike="noStrike">
                <a:solidFill>
                  <a:srgbClr val="000000"/>
                </a:solidFill>
                <a:latin typeface="Arial"/>
                <a:ea typeface="Times New Roman"/>
              </a:rPr>
              <a:t>et als.</a:t>
            </a:r>
            <a:r>
              <a:rPr b="0" i="1" lang="es-PR" sz="1400" spc="-1" strike="noStrike">
                <a:solidFill>
                  <a:srgbClr val="000000"/>
                </a:solidFill>
                <a:latin typeface="Arial"/>
                <a:ea typeface="Calibri"/>
              </a:rPr>
              <a:t>, </a:t>
            </a:r>
            <a:r>
              <a:rPr b="0" lang="es-PR" sz="1400" spc="-1" strike="noStrike">
                <a:solidFill>
                  <a:srgbClr val="000000"/>
                </a:solidFill>
                <a:latin typeface="Arial"/>
                <a:ea typeface="Calibri"/>
              </a:rPr>
              <a:t>199 DPR 458 (2017) fecha de Resolución 21 de diciembre de 2017</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400" spc="-1" strike="noStrike">
                <a:solidFill>
                  <a:srgbClr val="000000"/>
                </a:solidFill>
                <a:latin typeface="Arial"/>
                <a:ea typeface="Calibri"/>
              </a:rPr>
              <a:t>En Rushmore Loan Management v. Reyes Nazario, 2021TA2259, el Tribunal de Apelaciones determinó que la norma establecida por Torres Zayas es prospectiva por lo que no aplica a los casos presentado antes de la Resolución del mismo.</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PR" sz="1400" spc="-1" strike="noStrike">
                <a:solidFill>
                  <a:srgbClr val="000000"/>
                </a:solidFill>
                <a:latin typeface="Arial"/>
                <a:ea typeface="Calibri"/>
              </a:rPr>
              <a:t>En Fistbank v. Sanabria del Valle, 2021TA2259, el Tribunal de Apelaciones confirmó la Sentencia del TPI desestimando el caso, luego que se había dictado sentencia por un Tribunal de igual jerarquía por no haberse emplazado por edicto a la SLG conforme a Torres Zayas. El TA determinó que actuó correctamente el TPI al desestimar el caso, a pesar que había dictado sentencia previamente, toda vez que la SLG </a:t>
            </a:r>
            <a:r>
              <a:rPr b="0" lang="es-ES" sz="1400" spc="-1" strike="noStrike">
                <a:solidFill>
                  <a:srgbClr val="000000"/>
                </a:solidFill>
                <a:latin typeface="Arial"/>
                <a:ea typeface="Calibri"/>
              </a:rPr>
              <a:t>no fue propiamente emplazada, por lo cual el tribunal primario no adquirió jurisdicción sobre ésta.</a:t>
            </a:r>
            <a:r>
              <a:rPr b="0" lang="es-PR" sz="1400" spc="-1" strike="noStrike">
                <a:solidFill>
                  <a:srgbClr val="000000"/>
                </a:solidFill>
                <a:latin typeface="Arial"/>
                <a:ea typeface="Calibri"/>
              </a:rPr>
              <a:t>  </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gislación para evitar las ejecuciones de hipotecas</a:t>
            </a: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El Código Civil de Puerto Rico establece que los contratos tienen fuerza de ley entre las partes (Art. 1233 del Código Civil de 2020, Art. 1044 de Código Civil de 1930).</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La mayor parte de los casos de ejecución de hipotecas convencionales se dan por falta de pago del deudor, usualmente por que hubo un cambio de circunstancia en los ingresos del deudor. </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No obstante, debido a la recesión económica que comenzó alrededor del año 2008 y que afectó sustancialmente el mercado de bienes raíces en Estados Unidos al igual que en Puerto Rico, provocó que se hicieran legislaciones con el fin de disminuir las ejecuciones de hipotecas imponiendo a las instituciones financieras la obligación de auscultar alternativas a la ejecución de hipoteca. </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En el ámbito Federal se legisló el Dodd Frank Act en el 2010.</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En Puerto Rico se creó la Ley de Mediación Compulsoria y Preservación de tu Hogar en los Procesos de Ejecución de Hipotecas de una Vivienda Proncipal, Ley 184 de 2012 y la Ley de Ayuda al Deudor Hipotecario, Ley 169 de 2016.</a:t>
            </a: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9:55:16Z</dcterms:created>
  <dc:creator>Vanessa Castedo</dc:creator>
  <dc:description/>
  <dc:language>en-US</dc:language>
  <cp:lastModifiedBy>Lcdo. Víctor A Pérez Mejía</cp:lastModifiedBy>
  <cp:lastPrinted>2018-03-15T12:44:00Z</cp:lastPrinted>
  <dcterms:modified xsi:type="dcterms:W3CDTF">2022-03-23T17:02:35Z</dcterms:modified>
  <cp:revision>297</cp:revision>
  <dc:subject/>
  <dc:title>Slide 1</dc:title>
</cp:coreProperties>
</file>